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3B6-E589-473A-A2FE-F8C46012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567-39BC-442E-885A-74C18742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0E2-1660-4A7B-8301-E2E82FB3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2A2-E163-4FC2-BE57-31A4BECB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2C7F-5B56-4440-A992-58CB7C02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15C0-D004-4315-BAE9-D86C530B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C949-1550-4EC8-BDE0-6C49AD4F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145F-DB35-4103-B36E-662B321B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8410-5843-4FE2-ADEA-5FB91AB0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F5E7-5922-49BF-A1AD-472FF54F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A9A6-575D-4C9B-941D-FD0D2786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09A-8137-4637-807C-07339A9B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F1AD-6E5B-42D2-8D40-8D3C9454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E525-B39A-44DD-A836-8CBA061F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E90D-F306-4051-8165-FAFC36E1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85C8-2D03-4EFB-8B2E-A8AA813F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E3DD-4593-45F1-B2FE-64C51899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A0FF-7F37-419E-A0AA-2F1792AD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4BB-018D-4A40-B294-6D91C488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520-B9FB-4801-82E9-67C6FA64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919-30D5-491C-8F83-3ABF1FB4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E6A-C750-4B4D-ABA2-BA59F55B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398-7427-40AC-B8E5-DCD6F875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68C-1E93-4FB7-B4F7-831D1C3E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D6A2-AC55-4509-B86C-8B0343170D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0317-3182-45FE-B8E9-F6F59300244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A Remnant Shall Retur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 8, Less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s 1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dg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ople repented and cried to God for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raised up a deliverer, to free them, thus beginning the period we call the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riod was a long one, covering approximately 4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ere fifteen leaders of the people during this time, one of whom appointed himself rather than being appointed by God (Abimelech, Judges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was their king during this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ople grew discontent and asked judge Samuel that they be given a king like the nations around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98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98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98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98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ited Kingdo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ul became the first king of Israel, but was disobedient to God and the kingdom was taken from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became the second king and was faithful to God, except with his adultery with Bathsh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omon, David’s son, reigned during Israel’s greatest period in hi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le was bu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ormous wealth and prospe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st area of territory 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omon became unfaithful to God at the end of his reign and was told most of the kingdom would be torn from the hand of his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98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98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ivided Kingdo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weeks after Solomon died, as prophesied, his son Rehoboam refused to listen to request of people that he lighten their burdens and the kingdom fell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an named Jeroboam took the ten northern tribes and set up the kingdom of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hoboam was left with Judah, his own tribe, and Benjamin, so the little kingdom was called Ju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rael had 19 wicked kings over a period of 200 years (921 B.C.- 721 B.C.) until they were taken away into Assyrian cap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ah had 20 kings, with only 7 being goo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98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98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dah Alo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ah continued alone for about 135 years after Israel was taken away (721 B.C. – 586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prophets told of the coming doom for Judah if they continued their wicked and idolatrous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ah failed to listen and was taken away into Babylonian captivity in 586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promised a remnant would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9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98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98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98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98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umma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all of Judah and Jerusalem to the Babylon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cribed in 2 Kings and 2 Chroni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rnings were given by Jeremia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iel served in the court of Nebuchadnezzar in Babyl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zekiel lived among the common people who were captives in Babyl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mentations was written by Jeremiah after Jerusalem was left in ru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98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98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98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98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98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story of the Perio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Secular Sourc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syrian empi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mrod, Noah’s son built the city of Ninev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 became the capital of Assy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omon died Assyrians were growing in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721 B.C. the Assyrians destroyed the northern kingdom of Israel and took the people ca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edes and Babylonians defeated the Assyrians at Carchemish in 609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bout the time this workbook be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98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898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898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98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898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898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story of the Perio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Secular Sourc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bylonian empi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609 B.C. they defeated the Assyri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605 B.C. Judah surrendered to the Babylonian ar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sures taken from the 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iel and first captives ta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597 B.C. the Babylonians return and take king Jehoiachin and many others captive to Baby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586 B.C., Babylonians return, burn Jerusalem, tear down walls, taking king Zedekiah and most of Judah  captive, leaving only the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98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029200" y="4267080"/>
            <a:ext cx="99072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029200" y="4191120"/>
            <a:ext cx="10666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049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rritory Controlled By The Babylon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76520" y="4571640"/>
            <a:ext cx="33526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1028200">
            <a:off x="2666880" y="4419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p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666880" y="457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0 Years of Cap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647712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3840" y="1484280"/>
            <a:ext cx="29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eremiah; La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zek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3808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Assyrian Empire Had Been Unsuccessful In Taking Jud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962520"/>
            <a:ext cx="19051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syria took charge of Israel by 721 B.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29000" y="40384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iods of Bible History unti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New Testament Period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triarc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odus from Egy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vided King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udah Al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p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ears of Sil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3049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Medes and Babylonians Threw Off The Yoke of Assyria and Defeated Her in 612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2209680"/>
            <a:ext cx="2666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decisive battle took place at Carchemish in 609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120" y="2133720"/>
            <a:ext cx="358164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86040" y="1414440"/>
            <a:ext cx="5371920" cy="4029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00200" y="609480"/>
            <a:ext cx="62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tanbul\Istanbul Museum\Babylon Ishtar Gate dra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86040" y="1414440"/>
            <a:ext cx="5371920" cy="4029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52120" y="60948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stanbul\Istanbul Museum\Babylon Ishtar Gate h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00200" y="141444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89520" y="533520"/>
            <a:ext cx="64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ff00"/>
                </a:solidFill>
                <a:latin typeface="Arial"/>
              </a:rPr>
              <a:t>Istanbul\Istanbul Museum\Babylon Ishtar Gate l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81080" y="3049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e Various Empires and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295280"/>
            <a:ext cx="68580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4419720"/>
            <a:ext cx="762120" cy="533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828800"/>
            <a:ext cx="1371600" cy="10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62485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bylonian Empire Would Not Survive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reation Period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. 1-5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d created heavens and eart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beg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d created man and all living cr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rst Sin, man expelled from Garden of Eden (3:2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rst glimpse of God’s plan for man (3:1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rst murder, Cain killed Abel  (4: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rst listing of generations (5:1-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thuselah, oldest known man, died at 969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Flood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. 6-10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ah’s sons, Shem, Ham, and Japhe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ld became so wicked, God decided to      destroy all life with a flood (6:11-1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d made covenant with Noa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ighteous Noah, his family, and enough           animals to start a new life spa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ah lived 350 years after the fl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ah died at 950 year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ing of Nations descended from Noa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cattering of the People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 11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le earth had one language  (11: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people settled in a plain in the land of Shin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t us build ourselves a city and a tower with its top in the heavens, and make a name for ourselves” (11: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d confused their language so they could not understand one another  (11: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dispersed over the face of all the earth, and left off building the 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ity was called Babel, because there God confused the language of all the ea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858000" cy="1143000"/>
          </a:xfrm>
          <a:prstGeom prst="rect">
            <a:avLst/>
          </a:prstGeom>
          <a:solidFill>
            <a:srgbClr val="006600">
              <a:alpha val="9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Patriarchs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. 12-50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selected Abraham through whom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ould make a distinc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ould choose His disciples as His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ould develop the full scheme of redemption and bring His Son into the world as S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a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sis ends telling story of Joseph, Jacob’s son, and all of Jacob’s fami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ing to Egypt to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98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98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98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98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98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odu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hundreds of years in Egypt the people of Israel are terribly oppressed by the Pharaoh in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rth and life of M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sed  in Pharaoh’s 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sen by God to lead His people ou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s Pharaoh to let Israelites go, but he ref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10 plagues, the people leave Egypt, go to Sinai, receive their law, then proceed to Kadesh-Barnea just outside Canaan, the land promised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elve men were sent out to spy the land, ten reported the land could not be taken; only two, Joshua and Caleb, said go forward, that God would be wit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98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98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ilderness Wander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sraelites believed the ten spies and refused to move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declared they would spend one year for every day the spies had been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soldier above twenty years old would die in the wilderness, except Joshua and Cal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sraelites wander for forty years in the wilderness eating manna and qu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ople continually murmur and com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es disobeys God and would not be allowed to enter the promis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98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98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98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98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nquest of the Land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sraelites finally cross the Jordan River and Joshua leads the army in taking the land prom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had commanded all the Canaanites be driven from the land, but many were not, causing them problems for hundreds of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nd was divided, each tribe and each family within each tribe, had its portion of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dly, within a short period of time, they turned to the idols of thei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allowed an oppressor to come agains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98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98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3:31:35Z</dcterms:created>
  <dc:creator>Terry W. Benton</dc:creator>
  <dc:description/>
  <dc:language>en-US</dc:language>
  <cp:lastModifiedBy>Frank D Vines</cp:lastModifiedBy>
  <dcterms:modified xsi:type="dcterms:W3CDTF">2007-02-01T15:53:34Z</dcterms:modified>
  <cp:revision>48</cp:revision>
  <dc:subject/>
  <dc:title>A Remnant Shall Return</dc:title>
</cp:coreProperties>
</file>